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0.jpeg" ContentType="image/jpeg"/>
  <Override PartName="/ppt/media/image44.png" ContentType="image/png"/>
  <Override PartName="/ppt/media/image54.png" ContentType="image/png"/>
  <Override PartName="/ppt/media/image41.jpeg" ContentType="image/jpeg"/>
  <Override PartName="/ppt/media/image56.png" ContentType="image/png"/>
  <Override PartName="/ppt/media/image31.jpeg" ContentType="image/jpeg"/>
  <Override PartName="/ppt/media/image4.jpeg" ContentType="image/jpeg"/>
  <Override PartName="/ppt/media/image30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654-CF82-46B7-922A-4656889E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610-B99D-4F71-A893-57226FC4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489-D4EE-44F7-BBBB-B1383F4C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9D7-4440-4858-ADFA-CC419518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E1D-8FE8-42C0-9E1D-90D2D422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C58A-29AD-4FD1-812C-CABD5800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217-F4EE-4D7A-B7C8-D46C1368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33C7-40D4-4CC9-A811-B2E716EE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6F27-0BDA-4675-AAE0-643A81E7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D38-D091-4C5A-A384-DC9D9ACE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2648-F161-4C22-A958-48354E9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247-8EB3-4D75-AF76-60A38ADE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8D77-F8E0-4168-9270-D55F013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A66-90BD-4305-88F5-70D455A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25F-3CB8-4995-86C3-0FBB4B04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CAAB-2545-4570-B60A-A49EED5E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71AC-5FCC-4A3F-BABC-CAB7200E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F411-FE43-4BCC-B354-23992DCE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9C43-AD4F-433F-B482-2C582F3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6EC2-5473-4F49-8D34-6ABE9BA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06EB-1419-4A33-8A21-BD7EB678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CE09-04A1-44F0-9E10-1449EEA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A67-22BF-45A9-9C9A-5919DCC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A5B1-5490-4B13-AEBE-E0D3FEF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9031-6454-4D14-B02E-F952C6A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332F-58FE-463D-9906-BD3017E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920E-3DED-4C51-AD04-E58B97B2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3929-4A70-45F1-A706-315F41E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77DA-CBF1-4B87-BF8D-668BC606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4841-52BD-4588-9174-5A05A826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1C01-B614-429B-8986-73FDA131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4D11-3E19-44AE-AD19-08474A7C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7EA8-2BB4-47D9-9A14-D35559C8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8BB-9D2A-4BC1-8ECB-E9F8EB61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1429-C238-422E-BB9D-7DC1A0C2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22AB-7DEB-4831-AEC5-01F2C3E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6CE1-C2DE-4E7E-ABB2-8ADDE4FC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E3EE-A0F9-41D1-8E55-B5C400E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44D90-4C7E-4A0B-BEBA-C7EAED5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A65F-5DF7-40E7-85DC-E4352A0D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12E4-8947-48C0-B02D-80DB15B5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F1C8-09F6-4E77-A421-D71D2B7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825D-775B-4D41-8C88-E5CC03EF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E45-E9E9-4B73-9AE9-D2579B8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FB1-2630-4DBE-ADAB-99A4EE0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C53-98B1-4C24-8FD7-ECFCE28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6F3-CB57-4EB6-8DF8-3C8E8D0B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EC8-CFBE-4B87-9C6F-109700C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9603-B065-4913-BCE5-AFA52554FB6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CF40-9FA8-4D2D-81E8-52C92F9082F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B040-F530-4443-8937-4E1C15DF47B1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F28E-65A7-4FE6-AB36-1E97E2F80A0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481A-FF95-46C8-A299-EF601F3F1578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87C9-C14C-41B9-9A1E-D9EC803EB1A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327-E96E-47AD-8569-3154490E3F46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6AF0-D166-4276-AE49-A73AC3D4C5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http://improveverywhere.com/2004/07/24/synchronized-swimming/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.me.com/khoneycuttessdack/kevinhoneycutt.org/Central_files/%20Keychain.pdf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eksontour.com/showme/ie/qt-CtrlEnter.cf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treaming.discoveryeducation.com/" TargetMode="External"/><Relationship Id="rId3" Type="http://schemas.openxmlformats.org/officeDocument/2006/relationships/hyperlink" Target="http://www.teachertube.com/" TargetMode="External"/><Relationship Id="rId4" Type="http://schemas.openxmlformats.org/officeDocument/2006/relationships/hyperlink" Target="http://www.youtube.com/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delicious.com/" TargetMode="External"/><Relationship Id="rId4" Type="http://schemas.openxmlformats.org/officeDocument/2006/relationships/hyperlink" Target="http://www.wallwisher.com/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8320" cy="1957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The ABCs of Using Technology to foster success in education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304200" y="1371600"/>
            <a:ext cx="4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1809000" y="2362320"/>
            <a:ext cx="321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magine the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3" name="Straight Arrow Connector 4"/>
          <p:cNvCxnSpPr/>
          <p:nvPr/>
        </p:nvCxnSpPr>
        <p:spPr>
          <a:xfrm>
            <a:off x="685800" y="1980720"/>
            <a:ext cx="8388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54" name="Picture 2" descr=""/>
          <p:cNvPicPr/>
          <p:nvPr/>
        </p:nvPicPr>
        <p:blipFill>
          <a:blip r:embed="rId3"/>
          <a:stretch/>
        </p:blipFill>
        <p:spPr>
          <a:xfrm>
            <a:off x="3733920" y="3657600"/>
            <a:ext cx="21524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148680" y="1295280"/>
            <a:ext cx="48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304280" y="21337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627800" y="380988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ack it up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919600" cy="2395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210000" y="4572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jump driv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457200" y="53341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s could happen if you are not careful backing u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309240" y="1523880"/>
            <a:ext cx="7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2112120" y="17524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Kid Powe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286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Don’t be afraid of one of the greatest resources in your clas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1263600" y="1828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2209680" y="2590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7315200" y="1295280"/>
            <a:ext cx="1362240" cy="90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7543800" y="28195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5"/>
          <a:stretch/>
        </p:blipFill>
        <p:spPr>
          <a:xfrm>
            <a:off x="7391520" y="4800600"/>
            <a:ext cx="13618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27972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1440360" y="190512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PTO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581640" cy="30924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7"/>
          <p:cNvCxnSpPr>
            <a:stCxn id="271" idx="3"/>
          </p:cNvCxnSpPr>
          <p:nvPr/>
        </p:nvCxnSpPr>
        <p:spPr>
          <a:xfrm>
            <a:off x="4454280" y="2088720"/>
            <a:ext cx="1794600" cy="1035720"/>
          </a:xfrm>
          <a:prstGeom prst="straightConnector1">
            <a:avLst/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sp>
        <p:nvSpPr>
          <p:cNvPr id="274" name="TextBox 8"/>
          <p:cNvSpPr/>
          <p:nvPr/>
        </p:nvSpPr>
        <p:spPr>
          <a:xfrm>
            <a:off x="5528520" y="31240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label your cords an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nections.  This will help yo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the long ru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20968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304200" y="1447920"/>
            <a:ext cx="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32880" y="182880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MULTIM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600200" y="22860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Multimedia is the use of many different types of media, such a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Camer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Headphones/stereo/iPods/MP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Interactive Whiteboa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 Gothic"/>
                <a:ea typeface="Bank Gothic"/>
              </a:rPr>
              <a:t>***and MANY, MANY mo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1380960" cy="1935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576440" cy="2209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5"/>
          <a:stretch/>
        </p:blipFill>
        <p:spPr>
          <a:xfrm>
            <a:off x="3505320" y="4648320"/>
            <a:ext cx="18381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218160" y="16002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282040" y="243828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tworking...do you know all the resources out there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357920" y="4267080"/>
            <a:ext cx="217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“Keys” to the web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947040" y="160020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eers &amp; Technology, are you connecte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7" name="Curved Connector 7"/>
          <p:cNvCxnSpPr/>
          <p:nvPr/>
        </p:nvCxnSpPr>
        <p:spPr>
          <a:xfrm flipV="1">
            <a:off x="1447560" y="1904760"/>
            <a:ext cx="2439000" cy="45792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49120" y="152388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62440" y="190512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box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In order to succeed at the use of technology you must first begin with opening the box of materials.  If you don’t open the box, you won’t get f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563868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3"/>
          <p:cNvSpPr/>
          <p:nvPr/>
        </p:nvSpPr>
        <p:spPr>
          <a:xfrm>
            <a:off x="234000" y="15238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2" descr="plugs"/>
          <p:cNvPicPr/>
          <p:nvPr/>
        </p:nvPicPr>
        <p:blipFill>
          <a:blip r:embed="rId2"/>
          <a:stretch/>
        </p:blipFill>
        <p:spPr>
          <a:xfrm>
            <a:off x="3808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762120" y="2590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5964"/>
                </a:solidFill>
                <a:latin typeface="Constantia"/>
              </a:rPr>
              <a:t>Plug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ke sure you’re connecte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5" descr="password"/>
          <p:cNvPicPr/>
          <p:nvPr/>
        </p:nvPicPr>
        <p:blipFill>
          <a:blip r:embed="rId3"/>
          <a:stretch/>
        </p:blipFill>
        <p:spPr>
          <a:xfrm>
            <a:off x="5410080" y="1600200"/>
            <a:ext cx="3492720" cy="23623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5486400" y="76212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nstantia"/>
              </a:rPr>
              <a:t>Passwords!!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ite them down to avoid these message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7" descr="computerproblems"/>
          <p:cNvPicPr/>
          <p:nvPr/>
        </p:nvPicPr>
        <p:blipFill>
          <a:blip r:embed="rId4"/>
          <a:stretch/>
        </p:blipFill>
        <p:spPr>
          <a:xfrm>
            <a:off x="4648320" y="4952880"/>
            <a:ext cx="330192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8"/>
          <p:cNvSpPr/>
          <p:nvPr/>
        </p:nvSpPr>
        <p:spPr>
          <a:xfrm>
            <a:off x="5181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ways have a </a:t>
            </a: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Plan B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858600" y="1828800"/>
            <a:ext cx="78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057400" y="2514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way to find resources and ideas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971800" y="3581280"/>
            <a:ext cx="3200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5c"/>
                </a:solidFill>
                <a:latin typeface="Constantia"/>
              </a:rPr>
              <a:t>Quick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ockwave and RealPlay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ow you to access great video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90720" y="5410080"/>
            <a:ext cx="5486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llow this link to find keyboarding </a:t>
            </a:r>
            <a:r>
              <a:rPr b="0" lang="en-US" sz="2400" spc="-1" strike="noStrike">
                <a:solidFill>
                  <a:srgbClr val="ff6600"/>
                </a:solidFill>
                <a:latin typeface="Constantia"/>
              </a:rPr>
              <a:t>Quic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ip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1219320" y="6172200"/>
            <a:ext cx="6400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eeksontour.com/showme/ie/qt-CtrlEnter.cf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9" descr="fast"/>
          <p:cNvPicPr/>
          <p:nvPr/>
        </p:nvPicPr>
        <p:blipFill>
          <a:blip r:embed="rId3"/>
          <a:stretch/>
        </p:blipFill>
        <p:spPr>
          <a:xfrm>
            <a:off x="7008840" y="1371600"/>
            <a:ext cx="21351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852480" y="1828800"/>
            <a:ext cx="7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2"/>
          <p:cNvSpPr/>
          <p:nvPr/>
        </p:nvSpPr>
        <p:spPr>
          <a:xfrm>
            <a:off x="419112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d0d9"/>
                </a:solidFill>
                <a:latin typeface="Constantia"/>
              </a:rPr>
              <a:t>Read Directions!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4" descr="directions"/>
          <p:cNvPicPr/>
          <p:nvPr/>
        </p:nvPicPr>
        <p:blipFill>
          <a:blip r:embed="rId2"/>
          <a:stretch/>
        </p:blipFill>
        <p:spPr>
          <a:xfrm>
            <a:off x="457200" y="2971800"/>
            <a:ext cx="2664000" cy="3340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nstructions"/>
          <p:cNvPicPr/>
          <p:nvPr/>
        </p:nvPicPr>
        <p:blipFill>
          <a:blip r:embed="rId3"/>
          <a:stretch/>
        </p:blipFill>
        <p:spPr>
          <a:xfrm>
            <a:off x="4952880" y="2743200"/>
            <a:ext cx="2989440" cy="28195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4495680" y="16765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y really do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0" y="1066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295560" y="236232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Never be afraid to “ASK” Ques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865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820080" y="1828800"/>
            <a:ext cx="62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2438280" y="12952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aring Resources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4" descr="sharing_knoledge.jpg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838080" y="18288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14400" y="32004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urn it on!  Check all connections and the sound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1473120" cy="1473480"/>
          </a:xfrm>
          <a:prstGeom prst="rect">
            <a:avLst/>
          </a:prstGeom>
          <a:ln w="0">
            <a:noFill/>
          </a:ln>
        </p:spPr>
      </p:pic>
      <p:sp>
        <p:nvSpPr>
          <p:cNvPr id="316" name="TextBox 8"/>
          <p:cNvSpPr/>
          <p:nvPr/>
        </p:nvSpPr>
        <p:spPr>
          <a:xfrm>
            <a:off x="635400" y="4419720"/>
            <a:ext cx="71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, time, time.  We all need more time, but every minute you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nd is cumulativ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9"/>
          <p:cNvSpPr/>
          <p:nvPr/>
        </p:nvSpPr>
        <p:spPr>
          <a:xfrm>
            <a:off x="779760" y="58672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s are the trendsetter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536840" cy="1473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4"/>
          <a:stretch/>
        </p:blipFill>
        <p:spPr>
          <a:xfrm>
            <a:off x="2133720" y="762120"/>
            <a:ext cx="15620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849960" y="1828800"/>
            <a:ext cx="75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0666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” – the You in universal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 engages all of your studen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079640" cy="161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1574640" cy="120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816200" cy="1206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5"/>
          <a:stretch/>
        </p:blipFill>
        <p:spPr>
          <a:xfrm>
            <a:off x="5715000" y="3505320"/>
            <a:ext cx="1612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849960" y="1828800"/>
            <a:ext cx="7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2"/>
          <p:cNvSpPr/>
          <p:nvPr/>
        </p:nvSpPr>
        <p:spPr>
          <a:xfrm>
            <a:off x="990720" y="3200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deo – Discovery Streaming, Teacher Tube, You Tube, (use Zamzar to captur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990720" y="4648320"/>
            <a:ext cx="685800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zamza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824400" y="1828800"/>
            <a:ext cx="99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3000" y="3200400"/>
            <a:ext cx="5486400" cy="4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b sites are Wonderful!  Just for starter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ww.Wordle.ne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deliciou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wallwisher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wikispaces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ww.brainpopjr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www.prometheanplanet.com/server.php?show=nav.11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streaming.discoveryeducation.co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teacher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tantia"/>
              </a:rPr>
              <a:t>http://www.youtube.com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837360" y="182880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1732320" y="2133720"/>
            <a:ext cx="72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for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 THE E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ITED LEARN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31240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228600" y="297180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Constantia"/>
              </a:rPr>
              <a:t>Technology in the classroom will provide even more excitement for an already excited audience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381600" y="129528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03520" y="137160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oo, do you know your search engin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1430280" y="33526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510480" y="4724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Yaho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976320" y="4038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629080" cy="3170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2133360" cy="20494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0"/>
          <p:cNvSpPr/>
          <p:nvPr/>
        </p:nvSpPr>
        <p:spPr>
          <a:xfrm>
            <a:off x="2819520" y="44956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eep up with the times…is the engine meeting your need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356040" y="17524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2715840" y="121932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Zap… your technology skills into gear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5" name="Curved Connector 5"/>
          <p:cNvCxnSpPr/>
          <p:nvPr/>
        </p:nvCxnSpPr>
        <p:spPr>
          <a:xfrm flipV="1">
            <a:off x="1143000" y="1752120"/>
            <a:ext cx="1829520" cy="610560"/>
          </a:xfrm>
          <a:prstGeom prst="curvedConnector5">
            <a:avLst>
              <a:gd name="adj1" fmla="val 49990"/>
              <a:gd name="adj2" fmla="val 49970"/>
              <a:gd name="adj3" fmla="val 49990"/>
            </a:avLst>
          </a:prstGeom>
          <a:ln w="25560">
            <a:solidFill>
              <a:srgbClr val="0f6fc6"/>
            </a:solidFill>
            <a:miter/>
            <a:tailEnd len="med" type="triangle" w="med"/>
          </a:ln>
        </p:spPr>
      </p:cxnSp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2219040" cy="1555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1752480" y="3276720"/>
            <a:ext cx="4146840" cy="3276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4"/>
          <a:stretch/>
        </p:blipFill>
        <p:spPr>
          <a:xfrm rot="16581000">
            <a:off x="2101680" y="2707920"/>
            <a:ext cx="876240" cy="1063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5"/>
          <a:stretch/>
        </p:blipFill>
        <p:spPr>
          <a:xfrm rot="661200">
            <a:off x="4383000" y="2774880"/>
            <a:ext cx="828720" cy="100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5" descr=""/>
          <p:cNvPicPr/>
          <p:nvPr/>
        </p:nvPicPr>
        <p:blipFill>
          <a:blip r:embed="rId6"/>
          <a:srcRect l="11113" t="16670" r="16670" b="11113"/>
          <a:stretch/>
        </p:blipFill>
        <p:spPr>
          <a:xfrm>
            <a:off x="33526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0" y="137160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65000" y="129528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aby steps…Slow and Steady wins the rac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114200" y="2057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2404800" y="2057400"/>
            <a:ext cx="56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Use your bookmarks, organize your bookma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4" name="Straight Arrow Connector 9"/>
          <p:cNvCxnSpPr>
            <a:endCxn id="201" idx="1"/>
          </p:cNvCxnSpPr>
          <p:nvPr/>
        </p:nvCxnSpPr>
        <p:spPr>
          <a:xfrm flipV="1">
            <a:off x="609120" y="1479600"/>
            <a:ext cx="38196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5" name="Straight Arrow Connector 11"/>
          <p:cNvCxnSpPr/>
          <p:nvPr/>
        </p:nvCxnSpPr>
        <p:spPr>
          <a:xfrm>
            <a:off x="609480" y="2133360"/>
            <a:ext cx="457920" cy="153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3200400" y="3352680"/>
            <a:ext cx="30290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3857760" y="914400"/>
            <a:ext cx="5286240" cy="49053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-1800" y="129528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215000" y="160020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Configuration and c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332640" y="5715000"/>
            <a:ext cx="759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your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uter configure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 optimum use?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the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rd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necessary to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mplet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all task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e you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onten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ith the skills you have or are you ready for mor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Straight Arrow Connector 7"/>
          <p:cNvCxnSpPr>
            <a:endCxn id="209" idx="1"/>
          </p:cNvCxnSpPr>
          <p:nvPr/>
        </p:nvCxnSpPr>
        <p:spPr>
          <a:xfrm flipV="1">
            <a:off x="685440" y="1784520"/>
            <a:ext cx="610200" cy="2732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2" name="TextBox 6"/>
          <p:cNvSpPr/>
          <p:nvPr/>
        </p:nvSpPr>
        <p:spPr>
          <a:xfrm>
            <a:off x="172080" y="411480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Are your plugs plugged in????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2960" y="1447920"/>
            <a:ext cx="7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343160" y="1447920"/>
            <a:ext cx="44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“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ocument Camer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” is your frien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1781280" cy="2960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 rot="20430000">
            <a:off x="685800" y="27428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7086600" y="16002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5"/>
          <a:stretch/>
        </p:blipFill>
        <p:spPr>
          <a:xfrm>
            <a:off x="1447920" y="525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6"/>
          <a:stretch/>
        </p:blipFill>
        <p:spPr>
          <a:xfrm>
            <a:off x="5943600" y="3886200"/>
            <a:ext cx="1828800" cy="1876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3540240" y="5791320"/>
            <a:ext cx="319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I wonder how many ne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teachers know about thi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marvelous antique invention???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1" name="Straight Arrow Connector 12"/>
          <p:cNvCxnSpPr/>
          <p:nvPr/>
        </p:nvCxnSpPr>
        <p:spPr>
          <a:xfrm flipV="1">
            <a:off x="837720" y="1828080"/>
            <a:ext cx="381960" cy="22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36800" y="1447920"/>
            <a:ext cx="67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833120" y="1752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chnology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4" name="Straight Arrow Connector 6"/>
          <p:cNvCxnSpPr/>
          <p:nvPr/>
        </p:nvCxnSpPr>
        <p:spPr>
          <a:xfrm>
            <a:off x="990360" y="1980720"/>
            <a:ext cx="61020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5" name="TextBox 7"/>
          <p:cNvSpPr/>
          <p:nvPr/>
        </p:nvSpPr>
        <p:spPr>
          <a:xfrm>
            <a:off x="3592800" y="1143000"/>
            <a:ext cx="20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g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c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s 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d meet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Down Arrow 8"/>
          <p:cNvSpPr/>
          <p:nvPr/>
        </p:nvSpPr>
        <p:spPr>
          <a:xfrm>
            <a:off x="4800600" y="3124080"/>
            <a:ext cx="762120" cy="16002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5322960" y="487692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Every Students Nee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124440" cy="31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3"/>
          <p:cNvSpPr/>
          <p:nvPr/>
        </p:nvSpPr>
        <p:spPr>
          <a:xfrm>
            <a:off x="286200" y="1523880"/>
            <a:ext cx="6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1633320" y="2133720"/>
            <a:ext cx="327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 you feel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rustrated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4699080" y="2743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ON’T GIVE UP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948960" y="5867280"/>
            <a:ext cx="82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ology can be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FLEXIBLE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o met all your educational nee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3" name="Curved Connector 8"/>
          <p:cNvCxnSpPr>
            <a:endCxn id="231" idx="1"/>
          </p:cNvCxnSpPr>
          <p:nvPr/>
        </p:nvCxnSpPr>
        <p:spPr>
          <a:xfrm>
            <a:off x="2971800" y="2590560"/>
            <a:ext cx="1753200" cy="3531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3044880" cy="32004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4466880" y="434340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o you have favorites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298080" y="1371600"/>
            <a:ext cx="76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038320" y="114300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 is for GOOGLE Aps…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421000" cy="1219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380880" y="3962520"/>
            <a:ext cx="3429000" cy="26524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886200" y="36576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Think of the possibiliti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Math games on your phone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aily science updat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So many choices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1" name="Straight Arrow Connector 8"/>
          <p:cNvCxnSpPr/>
          <p:nvPr/>
        </p:nvCxnSpPr>
        <p:spPr>
          <a:xfrm flipV="1">
            <a:off x="1219320" y="1599840"/>
            <a:ext cx="915120" cy="349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2"/>
          <p:cNvSpPr/>
          <p:nvPr/>
        </p:nvSpPr>
        <p:spPr>
          <a:xfrm>
            <a:off x="236160" y="1295280"/>
            <a:ext cx="80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nstantia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372400" y="99072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Don’t be afraid to ask for HEL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228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FUSD has a wealth of individuals who are willing and ready to help out with all sorts of technology needs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5" name="Straight Arrow Connector 6"/>
          <p:cNvCxnSpPr/>
          <p:nvPr/>
        </p:nvCxnSpPr>
        <p:spPr>
          <a:xfrm flipV="1">
            <a:off x="1219320" y="1447560"/>
            <a:ext cx="915120" cy="4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6" name="Straight Arrow Connector 8"/>
          <p:cNvCxnSpPr/>
          <p:nvPr/>
        </p:nvCxnSpPr>
        <p:spPr>
          <a:xfrm>
            <a:off x="761760" y="2361960"/>
            <a:ext cx="1067400" cy="99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47" name="TextBox 9"/>
          <p:cNvSpPr/>
          <p:nvPr/>
        </p:nvSpPr>
        <p:spPr>
          <a:xfrm>
            <a:off x="3962520" y="510372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Where to start looking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Individual site Peer technology instructo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MIS under I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Technology and Technology Services in FUSD Phone Direct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 rot="4738200">
            <a:off x="1207440" y="4459680"/>
            <a:ext cx="1538280" cy="233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305000" cy="115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4"/>
          <a:stretch/>
        </p:blipFill>
        <p:spPr>
          <a:xfrm>
            <a:off x="1447920" y="1676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6:47:27Z</dcterms:created>
  <dc:creator>jworssam</dc:creator>
  <dc:description/>
  <dc:language>en-US</dc:language>
  <cp:lastModifiedBy>Jillian  Worssam</cp:lastModifiedBy>
  <dcterms:modified xsi:type="dcterms:W3CDTF">2010-05-03T18:42:42Z</dcterms:modified>
  <cp:revision>25</cp:revision>
  <dc:subject/>
  <dc:title>Technology Peer Coaching</dc:title>
</cp:coreProperties>
</file>