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8FA-79CB-4C2A-9CF4-DEF2EBBC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ECB-5C7F-44AE-B93D-06D2046B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A33-6F9B-4F5C-B6FC-100956A9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A57-227A-4E4C-B3C6-66AC72A9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27A-CF24-4ADB-8E6B-72219AB0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052F-3C32-4175-91DF-E27A5027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6AE6-C3D2-4C5B-97C8-2F6E10DF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A145-0D28-4A7F-A97B-92003ACE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0BFF-6F1A-4804-9951-E7A62CA9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B3AE-C78C-42C1-9D80-6D9D1460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A445-6487-4A18-A387-787E6F5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C7B-8CE4-4BC7-A695-6D266B55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B033-C763-4195-8F92-5A2E437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588A-5B48-4D0A-86D6-18C4473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602E-8570-404E-9FED-B84E6FC0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367B-EC51-4A73-A01F-B4F864D2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A2F4-B1F5-49DD-BB09-2A696B8C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4DB3-D14C-442D-9BFD-DFA6D343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DE96-418D-4BAA-B545-4FDB0DD6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99F1-A683-4C86-94DF-B903A22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466C-707A-483F-827B-E9A6D05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E214-8C2B-4DBB-9EDD-64C4742E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BD4-DC7C-4EB0-A39B-D2F2275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DE57-DE5A-4980-AE4F-D5EF526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01DA-FF10-404D-A663-67638CF0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63F9-15AA-4C24-B2C3-458F0E4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BDDC-8F83-48F6-842E-57C98AF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B1EC4-ADD8-4A1C-A1DD-6C400822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AADC-26B0-43A2-BA65-D4B14FCA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7143-351E-4E71-9D66-29495895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DF61-8C2C-45BC-9EF7-0AD89ABC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CFE1-EB97-4012-8E80-6228228E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B1E6-FF9D-4B87-9364-2614512D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11B-D001-4151-850B-4536CB9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EE47-CFC0-4B57-BE72-FF7696F1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F680-79CA-4E86-92D0-9E38BB7F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4708-C786-4F58-B8D9-BF4F1DB6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F1EB-B548-471C-A925-E0A953F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6F4E-0F8E-4C85-9005-7F56A4B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B7AD-13DA-4B33-9172-0784EA8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AD5F6-642C-4582-949D-50CA2ACC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38E6-D79D-47D1-874D-06B0D04A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BD05-0DF3-449B-BE10-FFA55FA9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81C-C06B-4678-9A99-DB16298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014-39B5-4573-9DB6-E7EA21E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0EA-D11D-4690-954B-9494D49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E2E-605C-42A7-9214-BB041261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2E7-2FA3-417C-B661-9C7E884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211-FB3D-4C6B-8396-913D121F461A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93E3-FB7B-480C-8B36-390D69AE09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FB5-3571-44F7-8124-ADAE7D8D54B7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B9BA-6C25-4127-8645-EB7264A16ED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836-A8FE-4259-9C99-07D3500CFEE5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139-3051-494C-A299-C69C5B5F328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8E40-B3E7-4205-A8FA-16F037AF271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D29-EC91-4519-975E-983B87658D1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ttp://improveverywhere.com/2004/07/24/synchronized-swimming/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e.com/khoneycuttessdack/kevinhoneycutt.org/Central_files/%20Keychain.pd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eksontour.com/showme/ie/qt-CtrlEnter.cf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eaming.discoveryeducation.com/" TargetMode="External"/><Relationship Id="rId3" Type="http://schemas.openxmlformats.org/officeDocument/2006/relationships/hyperlink" Target="http://www.teacher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delicious.com/" TargetMode="External"/><Relationship Id="rId4" Type="http://schemas.openxmlformats.org/officeDocument/2006/relationships/hyperlink" Target="http://www.wallwisher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e ABCs of Using Technology to foster success in education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04200" y="1371600"/>
            <a:ext cx="4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809000" y="2362320"/>
            <a:ext cx="321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magin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3" name="Straight Arrow Connector 4"/>
          <p:cNvCxnSpPr/>
          <p:nvPr/>
        </p:nvCxnSpPr>
        <p:spPr>
          <a:xfrm>
            <a:off x="685800" y="1980720"/>
            <a:ext cx="8388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1524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148680" y="1295280"/>
            <a:ext cx="48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304280" y="21337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627800" y="38098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ack it up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919600" cy="2395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210000" y="4572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57200" y="5334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s could happen if you are not careful backing u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309240" y="1523880"/>
            <a:ext cx="7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112120" y="17524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Kid Powe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286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Don’t be afraid of one of the greatest resources in your clas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263600" y="182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315200" y="129528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7391520" y="480060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7972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40360" y="1905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PTO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581640" cy="30924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>
            <a:stCxn id="271" idx="3"/>
          </p:cNvCxnSpPr>
          <p:nvPr/>
        </p:nvCxnSpPr>
        <p:spPr>
          <a:xfrm>
            <a:off x="4454280" y="2088720"/>
            <a:ext cx="1794600" cy="10357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74" name="TextBox 8"/>
          <p:cNvSpPr/>
          <p:nvPr/>
        </p:nvSpPr>
        <p:spPr>
          <a:xfrm>
            <a:off x="5528520" y="31240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label your cords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nections.  This will help yo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ong ru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209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304200" y="1447920"/>
            <a:ext cx="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32880" y="182880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MULTIM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600200" y="22860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Multimedia is the use of many different types of media, such a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amer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Headphones/stereo/iPods/MP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Interactive Whiteboa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***and MANY, MANY m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80960" cy="193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576440" cy="220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18381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218160" y="16002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282040" y="243828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ing...do you know all the resources out ther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357920" y="4267080"/>
            <a:ext cx="217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“Keys” to the web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947040" y="160020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ers &amp; Technology, are you connecte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7" name="Curved Connector 7"/>
          <p:cNvCxnSpPr/>
          <p:nvPr/>
        </p:nvCxnSpPr>
        <p:spPr>
          <a:xfrm flipV="1">
            <a:off x="1447560" y="190476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49120" y="152388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62440" y="19051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In order to succeed at the use of technology you must first begin with opening the box of materials.  If you don’t open the box, you won’t get f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63868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234000" y="15238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2" descr="plugs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2120" y="2590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5964"/>
                </a:solidFill>
                <a:latin typeface="Constantia"/>
              </a:rPr>
              <a:t>Plug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ke sure you’re connecte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password"/>
          <p:cNvPicPr/>
          <p:nvPr/>
        </p:nvPicPr>
        <p:blipFill>
          <a:blip r:embed="rId3"/>
          <a:stretch/>
        </p:blipFill>
        <p:spPr>
          <a:xfrm>
            <a:off x="5410080" y="1600200"/>
            <a:ext cx="349272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486400" y="7621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nstantia"/>
              </a:rPr>
              <a:t>Password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ite them down to avoid these message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7" descr="computerproblems"/>
          <p:cNvPicPr/>
          <p:nvPr/>
        </p:nvPicPr>
        <p:blipFill>
          <a:blip r:embed="rId4"/>
          <a:stretch/>
        </p:blipFill>
        <p:spPr>
          <a:xfrm>
            <a:off x="4648320" y="4952880"/>
            <a:ext cx="330192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181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have a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lan B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858600" y="18288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057400" y="2514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to find resources and ideas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71800" y="3581280"/>
            <a:ext cx="3200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Constantia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ckwave and RealPlay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ow you to access great video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90720" y="5410080"/>
            <a:ext cx="548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llow this link to find keyboarding </a:t>
            </a: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p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1219320" y="61722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eeksontour.com/showme/ie/qt-CtrlEnter.cf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9" descr="fast"/>
          <p:cNvPicPr/>
          <p:nvPr/>
        </p:nvPicPr>
        <p:blipFill>
          <a:blip r:embed="rId3"/>
          <a:stretch/>
        </p:blipFill>
        <p:spPr>
          <a:xfrm>
            <a:off x="7008840" y="1371600"/>
            <a:ext cx="2135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852480" y="1828800"/>
            <a:ext cx="7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419112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Constantia"/>
              </a:rPr>
              <a:t>Read Directions!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directions"/>
          <p:cNvPicPr/>
          <p:nvPr/>
        </p:nvPicPr>
        <p:blipFill>
          <a:blip r:embed="rId2"/>
          <a:stretch/>
        </p:blipFill>
        <p:spPr>
          <a:xfrm>
            <a:off x="457200" y="2971800"/>
            <a:ext cx="2664000" cy="334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nstructions"/>
          <p:cNvPicPr/>
          <p:nvPr/>
        </p:nvPicPr>
        <p:blipFill>
          <a:blip r:embed="rId3"/>
          <a:stretch/>
        </p:blipFill>
        <p:spPr>
          <a:xfrm>
            <a:off x="4952880" y="2743200"/>
            <a:ext cx="2989440" cy="2819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495680" y="1676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y really do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0" y="1066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95560" y="236232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ver be afraid to “ASK” Ques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820080" y="182880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38280" y="12952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aring Resource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haring_knoledge.jpg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838080" y="1828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3200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urn it on!  Check all connections and the soun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473120" cy="1473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635400" y="4419720"/>
            <a:ext cx="71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, time, time.  We all need more time, but every minute you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nd is cumulativ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779760" y="58672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s are the trendset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53684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4"/>
          <a:stretch/>
        </p:blipFill>
        <p:spPr>
          <a:xfrm>
            <a:off x="2133720" y="762120"/>
            <a:ext cx="1562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849960" y="182880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0666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” – the You in universal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 engages all of your stud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079640" cy="161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574640" cy="120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816200" cy="120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612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849960" y="1828800"/>
            <a:ext cx="7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9907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deo – Discovery Streaming, Teacher Tube, You Tube, (use Zamzar to captur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990720" y="4648320"/>
            <a:ext cx="68580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zamza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824400" y="1828800"/>
            <a:ext cx="9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3000" y="3200400"/>
            <a:ext cx="5486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b sites are Wonderful!  Just for starter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Wordle.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deliciou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wallwishe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wikispace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ww.brainpopjr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prometheanplanet.com/server.php?show=nav.11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837360" y="182880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732320" y="2133720"/>
            <a:ext cx="72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 THE 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D LEARN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228600" y="2971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nstantia"/>
              </a:rPr>
              <a:t>Technology in the classroom will provide even more excitement for an already excited audi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81600" y="129528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03520" y="13716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oo, do you know your search engin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430280" y="3352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10480" y="4724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97632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29080" cy="3170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133360" cy="2049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0"/>
          <p:cNvSpPr/>
          <p:nvPr/>
        </p:nvSpPr>
        <p:spPr>
          <a:xfrm>
            <a:off x="2819520" y="4495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eep up with the times…is the engine meeting your need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6040" y="17524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2715840" y="121932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ap… your technology skills into ge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5" name="Curved Connector 5"/>
          <p:cNvCxnSpPr/>
          <p:nvPr/>
        </p:nvCxnSpPr>
        <p:spPr>
          <a:xfrm flipV="1">
            <a:off x="1143000" y="1752120"/>
            <a:ext cx="1829520" cy="610560"/>
          </a:xfrm>
          <a:prstGeom prst="curvedConnector5">
            <a:avLst>
              <a:gd name="adj1" fmla="val 49990"/>
              <a:gd name="adj2" fmla="val 49970"/>
              <a:gd name="adj3" fmla="val 4999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219040" cy="155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414684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4"/>
          <a:stretch/>
        </p:blipFill>
        <p:spPr>
          <a:xfrm rot="16581000">
            <a:off x="2101680" y="2707920"/>
            <a:ext cx="876240" cy="1063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5"/>
          <a:stretch/>
        </p:blipFill>
        <p:spPr>
          <a:xfrm rot="661200">
            <a:off x="4383000" y="2774880"/>
            <a:ext cx="828720" cy="100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"/>
          <p:cNvPicPr/>
          <p:nvPr/>
        </p:nvPicPr>
        <p:blipFill>
          <a:blip r:embed="rId6"/>
          <a:srcRect l="11113" t="16670" r="16670" b="11113"/>
          <a:stretch/>
        </p:blipFill>
        <p:spPr>
          <a:xfrm>
            <a:off x="33526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0" y="13716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65000" y="12952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aby steps…Slow and Steady wins the rac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114200" y="2057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2404800" y="2057400"/>
            <a:ext cx="56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bookmarks, organize your 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9"/>
          <p:cNvCxnSpPr>
            <a:endCxn id="201" idx="1"/>
          </p:cNvCxnSpPr>
          <p:nvPr/>
        </p:nvCxnSpPr>
        <p:spPr>
          <a:xfrm flipV="1">
            <a:off x="609120" y="1479600"/>
            <a:ext cx="38196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5" name="Straight Arrow Connector 11"/>
          <p:cNvCxnSpPr/>
          <p:nvPr/>
        </p:nvCxnSpPr>
        <p:spPr>
          <a:xfrm>
            <a:off x="609480" y="2133360"/>
            <a:ext cx="457920" cy="153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00400" y="3352680"/>
            <a:ext cx="3029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857760" y="914400"/>
            <a:ext cx="5286240" cy="4905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-1800" y="129528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215000" y="16002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figuration and 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332640" y="571500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your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uter configure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optimum use?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the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rd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ecessary to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ll task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e yo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t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th the skills you have or are you ready for mor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Straight Arrow Connector 7"/>
          <p:cNvCxnSpPr>
            <a:endCxn id="209" idx="1"/>
          </p:cNvCxnSpPr>
          <p:nvPr/>
        </p:nvCxnSpPr>
        <p:spPr>
          <a:xfrm flipV="1">
            <a:off x="685440" y="1784520"/>
            <a:ext cx="61020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72080" y="4114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your plugs plugged in????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2960" y="1447920"/>
            <a:ext cx="7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43160" y="144792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ocument Camer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 is your frien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1781280" cy="296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 rot="20430000">
            <a:off x="685800" y="2742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708660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6"/>
          <a:stretch/>
        </p:blipFill>
        <p:spPr>
          <a:xfrm>
            <a:off x="5943600" y="3886200"/>
            <a:ext cx="1828800" cy="1876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3540240" y="5791320"/>
            <a:ext cx="31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 wonder how many ne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eachers know about thi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marvelous antique invention???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Straight Arrow Connector 12"/>
          <p:cNvCxnSpPr/>
          <p:nvPr/>
        </p:nvCxnSpPr>
        <p:spPr>
          <a:xfrm flipV="1">
            <a:off x="837720" y="1828080"/>
            <a:ext cx="38196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3680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833120" y="1752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4" name="Straight Arrow Connector 6"/>
          <p:cNvCxnSpPr/>
          <p:nvPr/>
        </p:nvCxnSpPr>
        <p:spPr>
          <a:xfrm>
            <a:off x="990360" y="1980720"/>
            <a:ext cx="61020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7"/>
          <p:cNvSpPr/>
          <p:nvPr/>
        </p:nvSpPr>
        <p:spPr>
          <a:xfrm>
            <a:off x="3592800" y="1143000"/>
            <a:ext cx="20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g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c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meet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wn Arrow 8"/>
          <p:cNvSpPr/>
          <p:nvPr/>
        </p:nvSpPr>
        <p:spPr>
          <a:xfrm>
            <a:off x="4800600" y="3124080"/>
            <a:ext cx="762120" cy="16002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322960" y="487692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Every Students Nee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12444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286200" y="152388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633320" y="213372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 you feel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ustrat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699080" y="2743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948960" y="586728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ology can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EXIBL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met all your educational nee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3" name="Curved Connector 8"/>
          <p:cNvCxnSpPr>
            <a:endCxn id="231" idx="1"/>
          </p:cNvCxnSpPr>
          <p:nvPr/>
        </p:nvCxnSpPr>
        <p:spPr>
          <a:xfrm>
            <a:off x="2971800" y="2590560"/>
            <a:ext cx="1753200" cy="3531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044880" cy="3200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4466880" y="43434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favorit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298080" y="1371600"/>
            <a:ext cx="76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038320" y="11430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 is for GOOGLE Aps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4210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429000" cy="2652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886200" y="3657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nk of the possibiliti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h games on your phon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aily science updat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1" name="Straight Arrow Connector 8"/>
          <p:cNvCxnSpPr/>
          <p:nvPr/>
        </p:nvCxnSpPr>
        <p:spPr>
          <a:xfrm flipV="1">
            <a:off x="1219320" y="1599840"/>
            <a:ext cx="915120" cy="349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36160" y="1295280"/>
            <a:ext cx="80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372400" y="990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on’t be afraid to ask for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22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USD has a wealth of individuals who are willing and ready to help out with all sorts of technology need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5" name="Straight Arrow Connector 6"/>
          <p:cNvCxnSpPr/>
          <p:nvPr/>
        </p:nvCxnSpPr>
        <p:spPr>
          <a:xfrm flipV="1">
            <a:off x="1219320" y="1447560"/>
            <a:ext cx="91512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Straight Arrow Connector 8"/>
          <p:cNvCxnSpPr/>
          <p:nvPr/>
        </p:nvCxnSpPr>
        <p:spPr>
          <a:xfrm>
            <a:off x="761760" y="2361960"/>
            <a:ext cx="1067400" cy="99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TextBox 9"/>
          <p:cNvSpPr/>
          <p:nvPr/>
        </p:nvSpPr>
        <p:spPr>
          <a:xfrm>
            <a:off x="3962520" y="51037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here to start look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Individual site Peer technology instructo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MIS under I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Technology and Technology Services in FUSD Phone Direct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 rot="4738200">
            <a:off x="1207440" y="4459680"/>
            <a:ext cx="153828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305000" cy="11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47:27Z</dcterms:created>
  <dc:creator>jworssam</dc:creator>
  <dc:description/>
  <dc:language>en-US</dc:language>
  <cp:lastModifiedBy>Jillian  Worssam</cp:lastModifiedBy>
  <dcterms:modified xsi:type="dcterms:W3CDTF">2010-05-03T18:42:42Z</dcterms:modified>
  <cp:revision>25</cp:revision>
  <dc:subject/>
  <dc:title>Technology Peer Coaching</dc:title>
</cp:coreProperties>
</file>