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74270-4E8C-4BF4-AB60-7EF083FFB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5E143-DF53-47D6-80D1-50290A867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4529D-D770-4E3F-A4F9-1EDA27E6C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39E42-3AC2-4BAD-BE43-ADD820B10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47819-D522-43B3-B8AF-4A9FB47C8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E2D77-A8D6-4F3D-9B0B-5E6C6F9FD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7273F-A53D-4FAD-863B-8E6A3EF26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B0971-7EFC-453B-B3ED-51321DAEF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1450C-C8C2-431C-A44C-40AF9A1AD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7E80E-5D06-421C-AF03-9263C9932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16300-38A4-43D2-9FA0-2332D569E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3C257-6A84-4BD4-94D4-1D6FC4C38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17851-D2A4-4FDA-AC2F-5091FC242F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iacuc.arizona.edu/training/cats/images/Tabby1-DomesticCat-Closeup.jpg&amp;imgrefurl=http://www.iacuc.arizona.edu/training/cats/index.html&amp;usg=__1ig18ryuPCBpgmYQuHOD8vqSmGQ=&amp;h=746&amp;w=787&amp;sz=95&amp;hl=en&amp;start=46&amp;tbnid=0gJ8heloXzEZ3M:&amp;tbnh=136&amp;tbnw=143&amp;prev=/images%3Fq%3Dcats%26gbv%3D2%26ndsp%3D20%26hl%3Den%26safe%3Dactive%26sa%3DN%26start%3D40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alumnistore.globaluniversity.edu/images/GU%2520Pen.jpg&amp;imgrefurl=http://alumnistore.globaluniversity.edu/index.php%3Fmain_page%3Dindex%26cPath%3D1&amp;usg=__n8azoSiJJLNJbXGk77gS5H-IB0c=&amp;h=480&amp;w=640&amp;sz=186&amp;hl=en&amp;start=87&amp;tbnid=YDu0xPhtQThsqM:&amp;tbnh=103&amp;tbnw=137&amp;prev=/images%3Fq%3Dpen%26gbv%3D2%26ndsp%3D20%26hl%3Den%26safe%3Dactive%26sa%3DN%26start%3D80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evolvedc.com/Graphics/NewsletterGraphics/2009/May/GreenCookingPot.jpg&amp;imgrefurl=https://evolve.managebuilding.com/Resident/PublicPages/CustomPage.aspx%3Fcp%3D20&amp;usg=__YqdWytmI9tjJopy60Y_ASjK5yxE=&amp;h=350&amp;w=349&amp;sz=15&amp;hl=en&amp;start=152&amp;tbnid=ln_Jz--BLqufmM:&amp;tbnh=120&amp;tbnw=120&amp;prev=/images%3Fq%3Dcookingpot%26gbv%3D2%26ndsp%3D20%26hl%3Den%26safe%3Dactive%26sa%3DN%26start%3D140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lakewoodconferences.com/direct/dbimage/50349647/Coffee_Mug.jpg&amp;imgrefurl=http://www.lakewoodconferences.com/catalog/26/35/867/247313/sell_coffee_mug.html&amp;usg=__SDpJkxsNgiSAUuq62EigXmbplf8=&amp;h=360&amp;w=360&amp;sz=35&amp;hl=en&amp;start=27&amp;tbnid=DVaprBz5DkG3QM:&amp;tbnh=121&amp;tbnw=121&amp;prev=/images%3Fq%3Dmug%26gbv%3D2%26ndsp%3D20%26hl%3Den%26safe%3Dactive%26sa%3DN%26start%3D20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freefoto.com/images/01/07/01_07_8---Dog-Golden-Retriever_web.jpg&amp;imgrefurl=http://www.freefoto.com/preview/01-07-8%3Fffid%3D01-07-8&amp;usg=__OcJynXxTsHxc0MA_F2snj1rWesU=&amp;h=400&amp;w=600&amp;sz=123&amp;hl=en&amp;start=114&amp;tbnid=y-Gp844IuSFUOM:&amp;tbnh=90&amp;tbnw=135&amp;prev=/images%3Fq%3Ddog%26gbv%3D2%26ndsp%3D20%26hl%3Den%26safe%3Dactive%26sa%3DN%26start%3D100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gla.ac.uk/marinestation/research/bask-shark/shark_fin_450.jpg&amp;imgrefurl=http://www.gla.ac.uk/marinestation/research/bask-shark_clyde-cet.htm&amp;usg=__YaJAFLHEhtLi_RtNBH71NPaoGwE=&amp;h=300&amp;w=450&amp;sz=39&amp;hl=en&amp;start=5&amp;tbnid=eYsb5C3Vyi6ElM:&amp;tbnh=85&amp;tbnw=127&amp;prev=/images%3Fq%3Dfin%26gbv%3D2%26hl%3Den%26safe%3Dactive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germes-online.com/direct/dbimage/50278760/Children_s_Baseball_Cap.jpg&amp;imgrefurl=http://www.germes-online.com/catalog/69/77/267/page3/hats_and_caps.html&amp;usg=__6NDTHy7RhXllMDjJmnoUI7ZRnDk=&amp;h=360&amp;w=360&amp;sz=23&amp;hl=en&amp;start=25&amp;tbnid=jLoizt3n9kmE2M:&amp;tbnh=121&amp;tbnw=121&amp;prev=/images%3Fq%3Dcap%26gbv%3D2%26ndsp%3D20%26hl%3Den%26safe%3Dactive%26sa%3DN%26start%3D20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pittjug.org/b2b/pics/Metal___Wooden_Bed.jpg&amp;imgrefurl=http://www.pittjug.org/b2b/thyristors/1/&amp;usg=__qePrmLurLn-CzVZ5XiphE4sCIBY=&amp;h=491&amp;w=799&amp;sz=95&amp;hl=en&amp;start=19&amp;tbnid=8EFo8COOlV0vYM:&amp;tbnh=88&amp;tbnw=143&amp;prev=/images%3Fq%3Dbed%26gbv%3D2%26hl%3Den%26safe%3Dactive%26sa%3DG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itial, Medial, &amp; Final Sound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Gra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love to hear our own voices when we listen for initial, medial, &amp; final sounds in wor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743200" y="685800"/>
            <a:ext cx="3657600" cy="2306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819520" y="3809880"/>
            <a:ext cx="3581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Berlin Sans FB"/>
              </a:rPr>
              <a:t>rug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895480" y="762120"/>
            <a:ext cx="3276720" cy="28191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743200" y="4495680"/>
            <a:ext cx="3809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Berlin Sans FB"/>
              </a:rPr>
              <a:t>cat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971800" y="838080"/>
            <a:ext cx="3581280" cy="20624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743200" y="3962520"/>
            <a:ext cx="3657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Berlin Sans FB"/>
              </a:rPr>
              <a:t>pen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895480" y="228600"/>
            <a:ext cx="3505320" cy="33526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514600" y="3962520"/>
            <a:ext cx="4343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Berlin Sans FB"/>
              </a:rPr>
              <a:t>pot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352680" y="685800"/>
            <a:ext cx="2590920" cy="24382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2819520" y="4114800"/>
            <a:ext cx="3352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Berlin Sans FB"/>
              </a:rPr>
              <a:t>mug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14600" y="762120"/>
            <a:ext cx="3657600" cy="23619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2590920" y="4343400"/>
            <a:ext cx="3657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Berlin Sans FB"/>
              </a:rPr>
              <a:t>dog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438280" y="762120"/>
            <a:ext cx="4191120" cy="26510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666880" y="4495680"/>
            <a:ext cx="3962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Berlin Sans FB"/>
              </a:rPr>
              <a:t>fin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86000" y="609480"/>
            <a:ext cx="3581280" cy="25909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2819520" y="3886200"/>
            <a:ext cx="3047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Berlin Sans FB"/>
              </a:rPr>
              <a:t>cap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14600" y="762120"/>
            <a:ext cx="3581280" cy="236196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2590920" y="4191120"/>
            <a:ext cx="3504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Berlin Sans FB"/>
              </a:rPr>
              <a:t>bed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6T15:30:28Z</dcterms:created>
  <dc:creator>tlclab</dc:creator>
  <dc:description/>
  <dc:language>en-US</dc:language>
  <cp:lastModifiedBy>tlclab</cp:lastModifiedBy>
  <dcterms:modified xsi:type="dcterms:W3CDTF">2009-07-16T16:25:08Z</dcterms:modified>
  <cp:revision>2</cp:revision>
  <dc:subject/>
  <dc:title>Initial, Medial, &amp; Final Sounds 1st Grade</dc:title>
</cp:coreProperties>
</file>