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B80-66BE-494F-81AF-438CB98F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3A4-857E-4097-9D30-D089EBE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6B7-59FB-4F3D-8007-233C11B9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E95-9DB2-4E70-84C5-6A236F60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D61-8781-459B-9C91-193F94C8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260-3AF5-4ED2-BA1E-024A3C0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12B-31F7-4200-8C26-19866868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C30-FFC6-42B3-88DA-23FE4219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327-80B4-42DF-9E73-F96CB49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5CB-AFD1-4846-99D9-41C48A3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293-1517-482E-8B93-B4ACA2B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D0F-6AB3-49A5-8336-257DFD7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6E13-E22A-4D6D-A973-5AFCB446F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acuc.arizona.edu/training/cats/images/Tabby1-DomesticCat-Closeup.jpg&amp;imgrefurl=http://www.iacuc.arizona.edu/training/cats/index.html&amp;usg=__1ig18ryuPCBpgmYQuHOD8vqSmGQ=&amp;h=746&amp;w=787&amp;sz=95&amp;hl=en&amp;start=46&amp;tbnid=0gJ8heloXzEZ3M:&amp;tbnh=136&amp;tbnw=143&amp;prev=/images%3Fq%3Dcats%26gbv%3D2%26ndsp%3D20%26hl%3Den%26safe%3Dactive%26sa%3DN%26start%3D4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umnistore.globaluniversity.edu/images/GU%2520Pen.jpg&amp;imgrefurl=http://alumnistore.globaluniversity.edu/index.php%3Fmain_page%3Dindex%26cPath%3D1&amp;usg=__n8azoSiJJLNJbXGk77gS5H-IB0c=&amp;h=480&amp;w=640&amp;sz=186&amp;hl=en&amp;start=87&amp;tbnid=YDu0xPhtQThsqM:&amp;tbnh=103&amp;tbnw=137&amp;prev=/images%3Fq%3Dpen%26gbv%3D2%26ndsp%3D20%26hl%3Den%26safe%3Dactive%26sa%3DN%26start%3D8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volvedc.com/Graphics/NewsletterGraphics/2009/May/GreenCookingPot.jpg&amp;imgrefurl=https://evolve.managebuilding.com/Resident/PublicPages/CustomPage.aspx%3Fcp%3D20&amp;usg=__YqdWytmI9tjJopy60Y_ASjK5yxE=&amp;h=350&amp;w=349&amp;sz=15&amp;hl=en&amp;start=152&amp;tbnid=ln_Jz--BLqufmM:&amp;tbnh=120&amp;tbnw=120&amp;prev=/images%3Fq%3Dcookingpot%26gbv%3D2%26ndsp%3D20%26hl%3Den%26safe%3Dactive%26sa%3DN%26start%3D14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50349647/Coffee_Mug.jpg&amp;imgrefurl=http://www.lakewoodconferences.com/catalog/26/35/867/247313/sell_coffee_mug.html&amp;usg=__SDpJkxsNgiSAUuq62EigXmbplf8=&amp;h=360&amp;w=360&amp;sz=35&amp;hl=en&amp;start=27&amp;tbnid=DVaprBz5DkG3QM:&amp;tbnh=121&amp;tbnw=121&amp;prev=/images%3Fq%3Dmug%26gbv%3D2%26ndsp%3D20%26hl%3Den%26safe%3Dactive%26sa%3DN%26start%3D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01/07/01_07_8---Dog-Golden-Retriever_web.jpg&amp;imgrefurl=http://www.freefoto.com/preview/01-07-8%3Fffid%3D01-07-8&amp;usg=__OcJynXxTsHxc0MA_F2snj1rWesU=&amp;h=400&amp;w=600&amp;sz=123&amp;hl=en&amp;start=114&amp;tbnid=y-Gp844IuSFUOM:&amp;tbnh=90&amp;tbnw=135&amp;prev=/images%3Fq%3Ddog%26gbv%3D2%26ndsp%3D20%26hl%3Den%26safe%3Dactive%26sa%3DN%26start%3D1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a.ac.uk/marinestation/research/bask-shark/shark_fin_450.jpg&amp;imgrefurl=http://www.gla.ac.uk/marinestation/research/bask-shark_clyde-cet.htm&amp;usg=__YaJAFLHEhtLi_RtNBH71NPaoGwE=&amp;h=300&amp;w=450&amp;sz=39&amp;hl=en&amp;start=5&amp;tbnid=eYsb5C3Vyi6ElM:&amp;tbnh=85&amp;tbnw=127&amp;prev=/images%3Fq%3Dfin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78760/Children_s_Baseball_Cap.jpg&amp;imgrefurl=http://www.germes-online.com/catalog/69/77/267/page3/hats_and_caps.html&amp;usg=__6NDTHy7RhXllMDjJmnoUI7ZRnDk=&amp;h=360&amp;w=360&amp;sz=23&amp;hl=en&amp;start=25&amp;tbnid=jLoizt3n9kmE2M:&amp;tbnh=121&amp;tbnw=121&amp;prev=/images%3Fq%3Dcap%26gbv%3D2%26ndsp%3D20%26hl%3Den%26safe%3Dactive%26sa%3DN%26start%3D2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jug.org/b2b/pics/Metal___Wooden_Bed.jpg&amp;imgrefurl=http://www.pittjug.org/b2b/thyristors/1/&amp;usg=__qePrmLurLn-CzVZ5XiphE4sCIBY=&amp;h=491&amp;w=799&amp;sz=95&amp;hl=en&amp;start=19&amp;tbnid=8EFo8COOlV0vYM:&amp;tbnh=88&amp;tbnw=143&amp;prev=/images%3Fq%3Dbed%26gbv%3D2%26hl%3Den%26safe%3Dactive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, Medial, &amp; Final Sou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ve to hear our own voices when we listen for initial, medial, &amp; final sound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809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r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762120"/>
            <a:ext cx="327672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4495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38080"/>
            <a:ext cx="3581280" cy="20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9625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68580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114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m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657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43434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d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19112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495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094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388620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5812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911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5:30:28Z</dcterms:created>
  <dc:creator>tlclab</dc:creator>
  <dc:description/>
  <dc:language>en-US</dc:language>
  <cp:lastModifiedBy>tlclab</cp:lastModifiedBy>
  <dcterms:modified xsi:type="dcterms:W3CDTF">2009-07-16T16:25:08Z</dcterms:modified>
  <cp:revision>2</cp:revision>
  <dc:subject/>
  <dc:title>Initial, Medial, &amp; Final Sounds 1st Grade</dc:title>
</cp:coreProperties>
</file>