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640-41DE-4343-BB55-5E49CC64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3255-1662-44FC-9FBD-B83DAF7F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43A1-61B5-4419-BEAF-6AA19D07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C1A4-EE24-4626-98AC-3C82DE94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0E44-94C2-470F-9090-ABE37E86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772-12B3-457C-B81F-7581812B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3610-94EA-4288-9516-2DB03E80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5619-B699-4B39-94DD-CC3A4FE8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2F50-3E16-41B3-A706-E691F342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1D0F-9649-43B2-99A5-CAE01899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AC80-8B4B-44F3-A919-EB403992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5E08-A4CE-4DB4-8B0A-2897755D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A04C-69F9-4A50-BB29-A1E287A71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acuc.arizona.edu/training/cats/images/Tabby1-DomesticCat-Closeup.jpg&amp;imgrefurl=http://www.iacuc.arizona.edu/training/cats/index.html&amp;usg=__1ig18ryuPCBpgmYQuHOD8vqSmGQ=&amp;h=746&amp;w=787&amp;sz=95&amp;hl=en&amp;start=46&amp;tbnid=0gJ8heloXzEZ3M:&amp;tbnh=136&amp;tbnw=143&amp;prev=/images%3Fq%3Dcats%26gbv%3D2%26ndsp%3D20%26hl%3Den%26safe%3Dactive%26sa%3DN%26start%3D4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lumnistore.globaluniversity.edu/images/GU%2520Pen.jpg&amp;imgrefurl=http://alumnistore.globaluniversity.edu/index.php%3Fmain_page%3Dindex%26cPath%3D1&amp;usg=__n8azoSiJJLNJbXGk77gS5H-IB0c=&amp;h=480&amp;w=640&amp;sz=186&amp;hl=en&amp;start=87&amp;tbnid=YDu0xPhtQThsqM:&amp;tbnh=103&amp;tbnw=137&amp;prev=/images%3Fq%3Dpen%26gbv%3D2%26ndsp%3D20%26hl%3Den%26safe%3Dactive%26sa%3DN%26start%3D80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evolvedc.com/Graphics/NewsletterGraphics/2009/May/GreenCookingPot.jpg&amp;imgrefurl=https://evolve.managebuilding.com/Resident/PublicPages/CustomPage.aspx%3Fcp%3D20&amp;usg=__YqdWytmI9tjJopy60Y_ASjK5yxE=&amp;h=350&amp;w=349&amp;sz=15&amp;hl=en&amp;start=152&amp;tbnid=ln_Jz--BLqufmM:&amp;tbnh=120&amp;tbnw=120&amp;prev=/images%3Fq%3Dcookingpot%26gbv%3D2%26ndsp%3D20%26hl%3Den%26safe%3Dactive%26sa%3DN%26start%3D14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kewoodconferences.com/direct/dbimage/50349647/Coffee_Mug.jpg&amp;imgrefurl=http://www.lakewoodconferences.com/catalog/26/35/867/247313/sell_coffee_mug.html&amp;usg=__SDpJkxsNgiSAUuq62EigXmbplf8=&amp;h=360&amp;w=360&amp;sz=35&amp;hl=en&amp;start=27&amp;tbnid=DVaprBz5DkG3QM:&amp;tbnh=121&amp;tbnw=121&amp;prev=/images%3Fq%3Dmug%26gbv%3D2%26ndsp%3D20%26hl%3Den%26safe%3Dactive%26sa%3DN%26start%3D20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foto.com/images/01/07/01_07_8---Dog-Golden-Retriever_web.jpg&amp;imgrefurl=http://www.freefoto.com/preview/01-07-8%3Fffid%3D01-07-8&amp;usg=__OcJynXxTsHxc0MA_F2snj1rWesU=&amp;h=400&amp;w=600&amp;sz=123&amp;hl=en&amp;start=114&amp;tbnid=y-Gp844IuSFUOM:&amp;tbnh=90&amp;tbnw=135&amp;prev=/images%3Fq%3Ddog%26gbv%3D2%26ndsp%3D20%26hl%3Den%26safe%3Dactive%26sa%3DN%26start%3D100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la.ac.uk/marinestation/research/bask-shark/shark_fin_450.jpg&amp;imgrefurl=http://www.gla.ac.uk/marinestation/research/bask-shark_clyde-cet.htm&amp;usg=__YaJAFLHEhtLi_RtNBH71NPaoGwE=&amp;h=300&amp;w=450&amp;sz=39&amp;hl=en&amp;start=5&amp;tbnid=eYsb5C3Vyi6ElM:&amp;tbnh=85&amp;tbnw=127&amp;prev=/images%3Fq%3Dfin%26gbv%3D2%26hl%3Den%26safe%3Dactive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ermes-online.com/direct/dbimage/50278760/Children_s_Baseball_Cap.jpg&amp;imgrefurl=http://www.germes-online.com/catalog/69/77/267/page3/hats_and_caps.html&amp;usg=__6NDTHy7RhXllMDjJmnoUI7ZRnDk=&amp;h=360&amp;w=360&amp;sz=23&amp;hl=en&amp;start=25&amp;tbnid=jLoizt3n9kmE2M:&amp;tbnh=121&amp;tbnw=121&amp;prev=/images%3Fq%3Dcap%26gbv%3D2%26ndsp%3D20%26hl%3Den%26safe%3Dactive%26sa%3DN%26start%3D20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ittjug.org/b2b/pics/Metal___Wooden_Bed.jpg&amp;imgrefurl=http://www.pittjug.org/b2b/thyristors/1/&amp;usg=__qePrmLurLn-CzVZ5XiphE4sCIBY=&amp;h=491&amp;w=799&amp;sz=95&amp;hl=en&amp;start=19&amp;tbnid=8EFo8COOlV0vYM:&amp;tbnh=88&amp;tbnw=143&amp;prev=/images%3Fq%3Dbed%26gbv%3D2%26hl%3Den%26safe%3Dactive%26sa%3D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l, Medial, &amp; Final Sound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love to hear our own voices when we listen for initial, medial, &amp; final sounds in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2306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19520" y="38098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ru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762120"/>
            <a:ext cx="3276720" cy="2819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43200" y="44956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c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838080"/>
            <a:ext cx="3581280" cy="2062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43200" y="396252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p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28600"/>
            <a:ext cx="3505320" cy="3352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14600" y="39625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po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685800"/>
            <a:ext cx="2590920" cy="24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19520" y="41148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mu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762120"/>
            <a:ext cx="3657600" cy="2361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90920" y="43434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do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762120"/>
            <a:ext cx="4191120" cy="2651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66880" y="44956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609480"/>
            <a:ext cx="3581280" cy="2590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19520" y="3886200"/>
            <a:ext cx="304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ca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762120"/>
            <a:ext cx="3581280" cy="2361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90920" y="419112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erlin Sans FB"/>
              </a:rPr>
              <a:t>be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5:30:28Z</dcterms:created>
  <dc:creator>tlclab</dc:creator>
  <dc:description/>
  <dc:language>en-US</dc:language>
  <cp:lastModifiedBy>tlclab</cp:lastModifiedBy>
  <dcterms:modified xsi:type="dcterms:W3CDTF">2009-07-16T16:25:08Z</dcterms:modified>
  <cp:revision>2</cp:revision>
  <dc:subject/>
  <dc:title>Initial, Medial, &amp; Final Sounds 1st Grade</dc:title>
</cp:coreProperties>
</file>